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B7F7-365B-43CD-9844-45EFBEB6A46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C960-4671-4FAF-B0A3-3A72B07455D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28F7-E337-4DD2-BA5C-819CEF7CED0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250F-EFB1-4746-8E1A-BE2883995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6C3F-7FC3-4A70-9252-6A860F6D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12F2D-8510-42CC-80C1-11E3DB0B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E3084-5779-441A-9DFC-B79B5545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AC35F-D9A3-46A8-9871-5F3E1070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4BC1F-D7F8-4F3D-84EA-E2882183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A5912-AE73-42D3-9A49-158CD1F0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F94BDE-34FB-40AA-9ADD-55965F20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7D41A-24B3-4B96-B570-36A68D13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B5AAA-463E-46E0-84A3-13F61324F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0A5FD-59BC-4060-A137-6F5CADE98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9820F-0D48-412F-893D-FD4E4E20F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641D-D400-430A-B1A2-2FDCF724F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3FCDF-0733-446B-A9A3-4CE350BF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C1A543-6D8F-4EDA-A6E4-8A07ACFA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FD0C74-7CF7-4E15-874B-34B7EEC5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1E73C-9C3F-4A15-A74A-F90889B4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19F554-530C-4D42-82AF-6E06D501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F9BD0-F8D6-4E9E-9ABE-4B18651A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797B73-04DD-498F-A57C-E51A537E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11340-5D7B-47B8-9FE8-F5CF1139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2A1B7-86A4-44E8-BE14-07E01ADC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79C3DE-3E04-44DC-8E9E-7FC6C509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5799-65DC-4229-97D3-3C7387853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AC58E-DF9F-43AF-A1C9-A8137717F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BCAFC-CF01-4BE4-B402-38D94D3DA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56249-4906-45F7-9638-2DECBCD6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55C0D-A7AC-4343-8288-7BF3054B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9810F-FB7D-452E-82E2-3032E8C6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DEB89-84EA-48B9-BADA-B9E5F60D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103C1-8129-494D-A33F-A678F16D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2F182-E349-4462-A587-FCE532EC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70649-13A2-43AA-8332-59B494EA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56A48-836C-4315-A907-D0B93358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F42A-92C1-4866-A8AB-50DA90F9B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B447F-7050-4BF4-80BE-B143CDD1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C3AB4-D850-4B4B-B07B-9F6052E0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78632-2BCB-47B9-AFB5-7DBFA566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AEDC-098D-4176-BDCF-1C680624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46B6-F2F5-48A3-8A93-65A9C56D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290F-C1C9-443E-9A74-AC9F3AB7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E53C-17BB-4FF1-8DA7-0CB588A4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ECD8-F2CD-48D8-B609-C72E0112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CAA5-8418-4D1F-96C8-82EDF015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3312-DC6B-4705-8128-9D6AB54C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DAEE-E3CD-428D-BCFB-26FA93C5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6796-E570-469F-8273-77B432DF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9F12-CE1F-42C3-84EE-7623C7E0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A16D-1A36-4F23-8DA4-692F5C7DE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B400-639C-486F-A967-4F7FEEBBD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82382-D54D-44FE-BF97-302DB245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70CB0-DE91-4574-A962-659303D1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D8411-E964-4286-96E2-45DBB435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B0942-20B0-4B46-83EF-987E785E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2724E-BE78-4074-BA86-42EFE90D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9654-5743-4F39-9C06-79F855CB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EA3D8-9A76-40DB-8C6D-1925C116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C8D27-F107-457E-A099-02CDEE30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18B7C-8034-475B-8915-9A1E8D80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DEFCF-B24F-4C59-953B-F0EB3A08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DDA22-2C83-49FB-BBF4-A8ED9015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33F9C-3EF2-4B8E-AF77-5892FB90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1B07E-7562-49A5-B087-40B99DFCD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FC6FC-6F48-41F0-9173-551CCCEA1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497C0-3F73-4066-ACAA-969A0741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57E6D-2625-42BD-8163-71D6CF85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9568-6B68-43E7-8750-A72BC476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4ACCC-7474-48E5-91BB-94CEB148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C75DF-2FD0-4584-8CD9-BE8F8CA0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8F0E6-2C6B-4D4D-9A24-5306A88F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2F3D0-D36D-4B38-B437-2FCDAECF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D6B9D-132F-4003-B12D-AD25568B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753A5-A4F5-4291-8065-F3B14C11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7D7D1-8B9E-4E16-8D52-D3EDF9B9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D8F20-8926-4ACB-B28D-B0D859C2D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F63DF-8C72-459C-A416-A328A6F3B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37303-270E-4DCA-86B4-37952BB92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0569-DE58-4EA5-B3D0-8306CF48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70759-65EA-4CC7-BD18-2F4D9875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3BFE9-11AE-4980-B191-0EB2C83F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2AAEC-6885-4971-94A2-07EC792B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B7927-D928-449E-BCA0-36D2E38C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350BD-8FB6-44DD-A366-F1A13FD0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0A608-276A-4DFD-8BF2-A30C89FC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AA76E-E323-4885-BC40-5F9DFDAB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609C3-817B-49D7-A0FB-8AF5B1E3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7D447-4194-4FC5-AFB7-8D06737D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3CFE0-105F-4FEC-94B7-5605B6359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E126-9901-4D97-B230-087D9BEF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43FCB-7DB9-43F2-AED4-79C0692D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9D21C-ED09-45AC-85FC-12E54D537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B8089-2757-47C8-844A-406A6B3C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0E56B-384C-4DA4-8FDF-BCD496C6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F1110-D6DC-4B08-A875-503AE30B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EC743-0442-490D-89EC-E52E8DE2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C91FC-BC30-4C28-BD08-0C51437C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53F6E-CDDB-481A-B1C0-BE9FA544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D8B56-1930-4B85-8621-445A1CA7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FC20C-C1AD-40A9-B07E-AABC57C6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78E0-123E-489C-9418-2CBCE6A2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FD0EB-014D-4421-8737-7BADF2F8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5508F-7051-4225-AEC8-FB07B8A8E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4971A-FC01-4241-A424-27235AB26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A8E8F-9610-4036-ADA8-6894B8E6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23404-791D-4FB4-A007-2D71384C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63771-EDA8-41BE-AB01-7AD779A1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62CB7-CB35-4B30-924E-902DB03C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672E9-33EB-49DD-A98F-254FA1FC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DD8A9-A7DF-40E4-9917-2E7874B4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73F28-E999-43E7-ABE5-2635589F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FD21-6132-4723-8F43-4250A5DB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9A3BC-5CED-4DFD-A7B5-DE9626E9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CC4BB-8AF1-4544-A3E6-9A4E8EF4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F95CF-B3CA-4F85-9797-A471D936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14926-077A-4DF7-964C-AAB2D489B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3F3B7-0836-40AB-B003-D43168B3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54423-C78E-4615-BE35-A43FC2B7D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545F5-BF42-4B8E-96C1-69EA695F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77C18-7F36-452E-BB18-50B4180C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7ECB6-0DF3-4F87-87EB-E531CA33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862B2-A2D4-4BDD-93E5-1028AD0E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1277-3950-4D3C-BB03-BE7E5855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93C84-2B2D-4F46-BB7D-53553506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DA771-A69E-4EDD-B553-7B0EC4DB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A6EBA-3F56-41B6-8411-DFFD6743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43CB6-CCD0-42E1-A07D-7220A91D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AC0BF-EABA-48AE-B03E-52F56BB4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6B8A6-094C-425B-97DB-7781A2095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DBD60-0E27-4D98-8E26-336FB00F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5A02E-7B52-4D50-B0B4-66E43D026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80248-0DB4-483F-9DDD-10A42ACF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13F07-2017-478D-A060-15A6B189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95DF-B6AF-4D5A-AD6B-5CD2DC958826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2B51-3BDE-4E6F-AADF-73EB086A97B4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61A5-7D87-48B8-AB18-3769827AA5C3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F71A-3214-4AF3-B82A-A8FB2917E743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A7D0-AE02-4C4F-99A9-770F572A709A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8DE0-E8B3-400D-B72E-E4C9236C7BD8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F113-233C-4AEB-87A4-1606BFEB858D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4E82-FFB6-47E0-AE05-D9F868D2A0CD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C377-7016-4091-982F-3568F6A0C573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7AE9-8F58-40FA-8619-C126CDC5D0EE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9849-7F91-4E10-A211-35CBEBD8EFD5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4000" y="2852640"/>
            <a:ext cx="7848360" cy="139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6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第十章 纤毛虫</a:t>
            </a:r>
            <a:br>
              <a:rPr sz="4800"/>
            </a:br>
            <a:r>
              <a:rPr b="1" lang="en-US" sz="4800" spc="-1" strike="noStrike">
                <a:solidFill>
                  <a:srgbClr val="0000cc"/>
                </a:solidFill>
                <a:latin typeface="宋体"/>
                <a:ea typeface="宋体"/>
              </a:rPr>
              <a:t>Ciliate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结肠小袋纤毛虫</a:t>
            </a:r>
            <a:br>
              <a:rPr sz="4800"/>
            </a:br>
            <a:r>
              <a:rPr b="1" i="1" lang="en-US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Balantidium coli</a:t>
            </a:r>
            <a:endParaRPr b="0" lang="en-US" sz="48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403280" y="5300640"/>
            <a:ext cx="640080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图片 5" descr=""/>
          <p:cNvPicPr/>
          <p:nvPr/>
        </p:nvPicPr>
        <p:blipFill>
          <a:blip r:embed="rId2"/>
          <a:stretch/>
        </p:blipFill>
        <p:spPr>
          <a:xfrm>
            <a:off x="1835280" y="3976560"/>
            <a:ext cx="3201840" cy="2881440"/>
          </a:xfrm>
          <a:prstGeom prst="rect">
            <a:avLst/>
          </a:prstGeom>
          <a:ln w="0">
            <a:noFill/>
          </a:ln>
        </p:spPr>
      </p:pic>
      <p:pic>
        <p:nvPicPr>
          <p:cNvPr id="491" name="图片 4" descr=""/>
          <p:cNvPicPr/>
          <p:nvPr/>
        </p:nvPicPr>
        <p:blipFill>
          <a:blip r:embed="rId3"/>
          <a:stretch/>
        </p:blipFill>
        <p:spPr>
          <a:xfrm>
            <a:off x="5867280" y="2781360"/>
            <a:ext cx="3043440" cy="30240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形态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8360" y="1268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：椭圆形，无色透明或淡灰绿色，全身披有纤毛。有胞口、胞肛结构。虫体中、后部各有一伸缩泡。染色标本可见大、小核各一个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4" name="矩形 2"/>
          <p:cNvSpPr/>
          <p:nvPr/>
        </p:nvSpPr>
        <p:spPr>
          <a:xfrm>
            <a:off x="324000" y="3068640"/>
            <a:ext cx="7993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或近球形，淡黄或淡绿色，囊壁厚，染色后可见明显的大核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内容占位符 2" descr=""/>
          <p:cNvPicPr/>
          <p:nvPr/>
        </p:nvPicPr>
        <p:blipFill>
          <a:blip r:embed="rId2"/>
          <a:stretch/>
        </p:blipFill>
        <p:spPr>
          <a:xfrm>
            <a:off x="1990800" y="1262160"/>
            <a:ext cx="5533920" cy="502452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生活史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grpSp>
        <p:nvGrpSpPr>
          <p:cNvPr id="497" name="组合 5"/>
          <p:cNvGrpSpPr/>
          <p:nvPr/>
        </p:nvGrpSpPr>
        <p:grpSpPr>
          <a:xfrm>
            <a:off x="2241720" y="1346040"/>
            <a:ext cx="5287680" cy="4365720"/>
            <a:chOff x="2241720" y="1346040"/>
            <a:chExt cx="5287680" cy="4365720"/>
          </a:xfrm>
        </p:grpSpPr>
        <p:sp>
          <p:nvSpPr>
            <p:cNvPr id="498" name="TextBox 3"/>
            <p:cNvSpPr/>
            <p:nvPr/>
          </p:nvSpPr>
          <p:spPr>
            <a:xfrm>
              <a:off x="3852000" y="32850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人体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99" name="TextBox 6"/>
            <p:cNvSpPr/>
            <p:nvPr/>
          </p:nvSpPr>
          <p:spPr>
            <a:xfrm>
              <a:off x="2241720" y="32958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宋体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0" name="TextBox 7"/>
            <p:cNvSpPr/>
            <p:nvPr/>
          </p:nvSpPr>
          <p:spPr>
            <a:xfrm>
              <a:off x="3973680" y="169992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脱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1" name="TextBox 8"/>
            <p:cNvSpPr/>
            <p:nvPr/>
          </p:nvSpPr>
          <p:spPr>
            <a:xfrm>
              <a:off x="6372000" y="2915280"/>
              <a:ext cx="1080000" cy="36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2" name="TextBox 9"/>
            <p:cNvSpPr/>
            <p:nvPr/>
          </p:nvSpPr>
          <p:spPr>
            <a:xfrm>
              <a:off x="6197760" y="4016160"/>
              <a:ext cx="13316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结肠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定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3" name="TextBox 10"/>
            <p:cNvSpPr/>
            <p:nvPr/>
          </p:nvSpPr>
          <p:spPr>
            <a:xfrm>
              <a:off x="2700000" y="1346040"/>
              <a:ext cx="1448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感染期包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4" name="矩形 4"/>
            <p:cNvSpPr/>
            <p:nvPr/>
          </p:nvSpPr>
          <p:spPr>
            <a:xfrm>
              <a:off x="3973680" y="522936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5" name="矩形 12"/>
            <p:cNvSpPr/>
            <p:nvPr/>
          </p:nvSpPr>
          <p:spPr>
            <a:xfrm>
              <a:off x="2268360" y="535140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1187280" y="691920"/>
            <a:ext cx="77774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史过程：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寄生部位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结肠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殖方式：以二分裂为主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传染源：猪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阶段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期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方式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致病与诊断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：滋养体分泌透明质酸酶并借助机械运动侵入结肠黏膜及黏膜下层，引起溃疡（似溶组织内阿米巴痢疾）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可能是一种机会致病原虫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、急性型和慢性型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：即初期潜伏型。在粪便中可找到虫体，但无相关症状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2"/>
          <p:cNvSpPr/>
          <p:nvPr/>
        </p:nvSpPr>
        <p:spPr>
          <a:xfrm>
            <a:off x="468360" y="3429000"/>
            <a:ext cx="8280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接涂片查滋养体，乙状结肠镜取黏膜组织活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0" name="矩形 3"/>
          <p:cNvSpPr/>
          <p:nvPr/>
        </p:nvSpPr>
        <p:spPr>
          <a:xfrm>
            <a:off x="382680" y="714240"/>
            <a:ext cx="8286480" cy="17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型：即痢疾型。发病突然，腹痛、腹泻、黏液血便；可有并发症，也可累及肠外组织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性型：周期性腹泻，或腹泻、便秘交替，常排出黏液但无脓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流行与防治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流行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755640" y="11966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世界性分布。在我国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省、自治区有散在病例报道。宿主广，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动物可感染此虫，猪为重要的传染源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粪便污染及蝇的机械携带包嚢是重要的传播方式，主要是包嚢污染的食物和饮水经口感染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防治原则同溶组织内阿米巴，注意个人和饮食卫生，加强猪粪便的管理，保护水源，用甲硝唑治疗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3:12:27Z</dcterms:created>
  <dc:creator>shi</dc:creator>
  <dc:description/>
  <dc:language>en-US</dc:language>
  <cp:lastModifiedBy>hzg</cp:lastModifiedBy>
  <dcterms:modified xsi:type="dcterms:W3CDTF">2015-10-05T12:54:03Z</dcterms:modified>
  <cp:revision>27</cp:revision>
  <dc:subject/>
  <dc:title>结肠小袋纤毛虫 Balantidium coli</dc:title>
</cp:coreProperties>
</file>